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741-CAF2-4793-B2F6-F15A0C95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95B-8F03-49CC-B974-45230C70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0EF-5922-4794-A96D-DDD5866A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9EF-DC61-47BB-992C-9F297B4E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165-7A14-472F-9471-D07CAF1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52E-7B5B-45A5-A7E5-1C728A25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E03-FF89-4CDC-9415-032ED703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9BD-8C5D-4845-B315-12F4C9D3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86C-0957-4707-8DBE-4FB00C8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6F2-5ACB-4AEE-A878-6494D8C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DF8-FEED-4E26-B139-933A8D01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210-1F4B-4ED7-8305-3C7640D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841-9B32-4611-AB66-91F6C80B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ervaseprograms.georgetown.edu/hc/plagiarism.html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pyright and Plagi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ducating Teacher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0481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01000" y="30481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1437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rtain materials are included under the fair use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exemption of the U. S. Copyright Law and have been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epared according to the fair use multimedia guidelines </a:t>
            </a:r>
            <a:br>
              <a:rPr sz="900"/>
            </a:b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nd are restricted from further us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3657600"/>
            <a:ext cx="419076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nn Zottni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view Acade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1523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duc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 single copy can be made of any of the followi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chapter from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 article from a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5115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short story, short essay, or short poem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whether or not it is from a collec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5425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graph, chart, diagram, picture or carto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rom a book, periodical or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523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duc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2514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copy must meet these requir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st of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brevit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f the material, the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pontaneit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, and the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umulative effec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f th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648320"/>
            <a:ext cx="6400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l copies must include a notice of copy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: THIS MATERIAL MAY BE PROTECTED 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RIGHT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17 U.S&gt;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5238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: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ducational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51460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048120"/>
            <a:ext cx="66294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urpose of th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ture of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ount of the por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ffect on the potenti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2514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efore copying, consider the follow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295280"/>
            <a:ext cx="213336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1371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47386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ing someone else's work and turning it in as if you had done the work your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0732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finition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ing another person's ideas or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creative work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without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ferencing your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048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raphra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7497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pying and pasting text, graphics or media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rom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791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t putting quote marks around exact excer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78680" y="6629400"/>
            <a:ext cx="462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itions of Library and Information Technology Columbus Gorge Community Co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295280"/>
            <a:ext cx="38098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ducating Teachers: How to Av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4282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quire students to write an initial draft before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the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3139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ign assignments that cannot be easily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plagia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5425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each students to manage their time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– set up checkpoints for their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362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nderstand why students plagi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1295280"/>
            <a:ext cx="38098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447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ducating Teachers: How to Av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each students to keep carefu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quire a research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495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ducate students about plagia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4864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stitute highly visible procedures for monitoring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and detecting chea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1661400"/>
            <a:ext cx="6705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ertainly the plagiarism, and dealing with the fallout of it, was the most difficult thing I've ever faced since I started writing.”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ra Rober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871080"/>
            <a:ext cx="6629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r. Fitzgerald, I believe that is how he spells his name, seems to believe that plagiarism begins at home.”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lda Fitzgeral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350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Quo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1219320"/>
            <a:ext cx="27432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533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291024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t’s our responsi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9528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ngejan, Tony. "NECC 2007 program_search |  Program: search result detail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O Continuing Education Hom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26 Jun 2007. 12 Jul 2007 &lt;http://center.uoregon.edu/ISTE/NECC2007/program/search_results_details.php?sessionid=40438391&amp;selection_id=41930179&amp;rownumber=2&amp;max=2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emer, Ryan, “A Copyright Law Primer.” October 16, 2006. July 12, 2007.&lt;transcriptions.files.wordpress.com/2006/10/ucsb-ip-lecture1.ppt 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ngeman, Eric. "RIAA launches propaganda, lawsuit offensive against college students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rs Technic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Mar 2007. 12 Jul 2007 &lt;http://arstechnica.com/news.ars/post/20070301-8953.html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Statute of Anne - Wikipedia, the free encyclopedia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in Page - Wikipedia, the free encycloped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17 May 2007. 12 Jul 2007 &lt;http://en.wikipedia.org/wiki/Statute_of_Anne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THE FIRST US COPYRIGHT LAW - Archiving Early America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rchiving Early America: Primary Source Material from 18th Century Americ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Jan 1996. 12 Jul 2007 &lt;http://www.earlyamerica.com/earlyamerica/firsts/copyright/&gt;.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mpbell, Don. "National CrossTalk -- Vol. 14 / No. 1 -- Winter 2006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igher Educa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1 Dec 2006. 12 Jul 2007 &lt;http://www.highereducation.org/crosstalk/ct0106/news0106-plagiarism.shtml&gt;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nor Council, Georgetown. "Georgetown University."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Georgetown Univers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4 Apr 2007. 12 Jul 2007 &lt;http://gervaseprograms.georgetown.edu/hc/plagiarism.html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143000"/>
            <a:ext cx="1143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1447920"/>
            <a:ext cx="8534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hor, An. "Definitions of Library and Information Terminology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gcc ho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8 May 0006. 12 Jul 2007 &lt;http://www.cgcc.cc.or.us/Library/lib-instruction/define-terms.htm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Copyright in Classrooms: University of Illinoi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University of Illinois at Chicago (UIC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5 Dec 2006. 12 Jul 2007 &lt;http://www.uic.edu/depts/lib/copyright/classroom.shtml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seph, Linda. "Copyright with Cyberbee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yberB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7 Nov 2004. 12 Jul 2007 &lt;http://www.cyberbee.com/copyrt.html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yers, Jason. "copyright_main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structional Techn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2 Jul 2007 &lt;http://it.wce.wwu.edu/344/copyright/default.html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ness, Adam. "Welcome To The FACE Kids Site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Welcome To The FACE Kids 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2001. 12 Jul 2007 &lt;http://www.copyrightkids.org/&gt;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echLEARNING.com | Technology &amp; Learning - The Resource for Education Technology Leader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echLEARNING.com | Technology &amp; Learning - The Resource for Education Technology Lead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5 Oct 2002. 12 Jul 2007 &lt;http://www.techlearning.com/db_area/archives/TL/2002/10/copyright_quiz.php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304920"/>
            <a:ext cx="84582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,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066680"/>
            <a:ext cx="3581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1828800"/>
            <a:ext cx="1676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133720"/>
            <a:ext cx="74674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My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History: A Brief History of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aw: Educational Fair Use &amp;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1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990720"/>
            <a:ext cx="85345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Assessing Student Learning  - five practical guide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entre for the Study of Higher Education (CSHE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 Jan 2002. 12 Jul 2007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http://www.cshe.unimelb.edu.au/assessinglearning/03/plagMain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lins, Terry. "teaching with writing - strategies for preventing plagiarism - preventing plagiarism - center for writing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enter for writ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2 Jan 2007. 12 Jul 2007 &lt;http://writing.umn.edu/tww/plagiarism/strategies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nstruction - Faculty - Plagiarism - Preventing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University of Texas Librar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29 Jun 2005. 12 Jul 2007 &lt;http://www.lib.utexas.edu/services/instruction/faculty/plagiarism/preventing.html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Plagiarism - DGN Library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strict 9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12 Jul 2007 &lt;http://www.csd99.k12.il.us/north/library/plagiarism.ht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he Bedford/St. Martin's Workshop on Plagiarism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Using Portfolios to Avoid Plagiaris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23 Nov 2005. 12 Jul 2007 &lt;http://bcs.bedfordstmartins.com/plagiarism/default.asp?s=&amp;n=&amp;i=&amp;v=&amp;o=&amp;ns=0&amp;uid=0&amp;rau=0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bme &lt;http://www.bibme.o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lick, David. "Son of Citation Machine."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n of Citation Mach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29 Oct 2000. 11 Jul 2007 &lt;http://citationmachine.net/&gt;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52280"/>
            <a:ext cx="845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,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914400"/>
            <a:ext cx="3581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990720"/>
            <a:ext cx="853452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ache, Anne. "RIAA Threatens 19 Universities with Lawsuits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echnology news - CNET News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8 Oct 2007.  1 Nov 2007 &lt;http://www.news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ckworth, Cary, Liz Kennedy, and Jonathan Lamy. "Newsroom.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RIA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18 Oct 2007.  1 Nov 2007 &lt;http://www.riaa.com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eton, Brad. "10 Big Myths about copyright explained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ad Templeton's Home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 Jan. 2004. 20 July 2008 &lt;http://www.templetons.com/brad/copymyths.html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lagiarism Quotes."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mous Quotes and Quotations at BrainyQu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 Jan. 2008. 20 July 2008 &lt;http://www.brainyquote.com/quotes/keywords/plagiarism.html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52280"/>
            <a:ext cx="845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dits,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914400"/>
            <a:ext cx="35816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The Challenge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880" y="20570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do not understand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pyright law (or value it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s impact on the creative work of an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551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achers do not fully understand …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the concept of “fair u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800600"/>
            <a:ext cx="6934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chnology is making it easier and easier to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duplicate copyrighted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600200"/>
            <a:ext cx="38102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Challeng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828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ical Student Commen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600200"/>
            <a:ext cx="381024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25560"/>
            <a:ext cx="73152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one is going to take the time to track m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y make so much money, they’ll never miss it.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809880"/>
            <a:ext cx="6553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 am enhancing the val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419720"/>
            <a:ext cx="7162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 bought it!  Why can’t I do what I want wit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5029200"/>
            <a:ext cx="6858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t’s no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giarism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Myth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600200"/>
            <a:ext cx="2514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f it doesn't have a copyright notice, it's not copyrighted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232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f I make up my own stories, but base them on another work, my new work belongs to me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800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The Truth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0200" y="304776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AA sent new wave of 401 pre-lawsuit letters to 12 universities this week.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AA Newsroom, February 21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600200"/>
            <a:ext cx="2514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4876920"/>
            <a:ext cx="64008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Internet plagiarism is probably by far the most common form of cheating or academic dishonesty," </a:t>
            </a:r>
            <a:br>
              <a:rPr sz="1800"/>
            </a:br>
            <a:br>
              <a:rPr sz="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di Kuo, 2005 Emory University graduate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University's Honor Council Chairman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ational Crosstalk Wint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22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Recording Industry Association of America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(RIAA) is pursuing and prosecuting vio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267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giarism has become an epide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History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5238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Brief Hi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438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709 – Statute of Anne, Queen Anne of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1240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790 -  First US Copyright Law, signed by George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7339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43376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976 -  “Fair Use” statute added to the US Copyrigh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51055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998-  Digital Millennium Copyright Act (DMCA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6991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03 - Teacher 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7339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841 -  Concept of “Fair Use”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295280"/>
            <a:ext cx="26668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447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429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362320"/>
            <a:ext cx="7239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tellectual property protection for original works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are automatically protected by copyright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33684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rotection begins at the moment they are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“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fixed in a tangible medium.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32756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ights include: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reproduction, modification,  </a:t>
            </a:r>
            <a:br>
              <a:rPr sz="2400"/>
            </a:b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   distribution, display, and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Law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9528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867280"/>
            <a:ext cx="1219320" cy="9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1219320" cy="914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562720"/>
            <a:ext cx="121932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71800"/>
            <a:ext cx="1219320" cy="990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5280"/>
            <a:ext cx="22096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447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pyrigh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Long Does it L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590920"/>
            <a:ext cx="7315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reated Prior to January 1,1978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8 years + a 47-year renewal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For practical purposes should be considered to be 75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4114800"/>
            <a:ext cx="72388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reated on or after January 1,19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life of the author plus 70 years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(Sonny Bono Copyright Term Extension 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059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3:10:27Z</dcterms:created>
  <dc:creator>Lakeview</dc:creator>
  <dc:description/>
  <dc:language>en-US</dc:language>
  <cp:lastModifiedBy>Lakeview</cp:lastModifiedBy>
  <dcterms:modified xsi:type="dcterms:W3CDTF">2008-07-21T20:22:56Z</dcterms:modified>
  <cp:revision>289</cp:revision>
  <dc:subject/>
  <dc:title>Slide 1</dc:title>
</cp:coreProperties>
</file>